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FBE-2194-42E3-9557-47E1B371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58C-EEEC-4485-9A0C-A59496B1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C0A-8994-4723-9608-78D51AD0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000-80B5-4F55-B0A1-84F98840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A33-C45E-43B9-A8F2-B2CA7AE8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A64-1FB7-4D6D-9675-A056B16B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44A-CB6C-42FD-9969-53DE767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175-F1E7-4009-A775-73A322D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0EF-EC67-48AB-9844-F94E64D3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704-C366-47CB-89E4-FE16C5F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50F-18A3-48ED-A405-7C4FA6D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2FF-8F69-4C25-8D89-BAECB4F3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7A4E-537B-43FF-A5E4-6F3C7E57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2656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7692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2656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3369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80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332000" y="2421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227640" y="24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476360" y="450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3924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227640" y="4508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468000" y="2881440"/>
            <a:ext cx="3976560" cy="397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4265640" y="1197000"/>
            <a:ext cx="4265640" cy="426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540720" y="2602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55 -0.01041 L -1.55608 -0.08402 E">
                                      <p:cBhvr>
                                        <p:cTn id="2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15 0.05664 L 1.55226 -0.40476 E">
                                      <p:cBhvr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-0.01041 L -1.575 -0.20995 E">
                                      <p:cBhvr>
                                        <p:cTn id="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1052640"/>
            <a:ext cx="7488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5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4 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12 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6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0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32000" y="2421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227640" y="24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476360" y="450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924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6227640" y="4508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) to learn 10  mor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) to revise formation of plurals and adjectiva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) To hit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) To find the secre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) To get onto our jigword lead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68928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552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1212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765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8:12:43Z</dcterms:created>
  <dc:creator>Chris Fuller</dc:creator>
  <dc:description/>
  <dc:language>en-US</dc:language>
  <cp:lastModifiedBy>Owner1</cp:lastModifiedBy>
  <dcterms:modified xsi:type="dcterms:W3CDTF">2008-10-06T16:42:40Z</dcterms:modified>
  <cp:revision>5</cp:revision>
  <dc:subject/>
  <dc:title>Slide 1</dc:title>
</cp:coreProperties>
</file>